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5739-0245-4232-8739-5132B6AC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01E4-2655-4639-BDD3-659668F6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703F-3E00-403F-9D1D-AC759D19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1A4-F32F-4D2D-88EE-8F70FF27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02EE-8043-41FD-9F97-049AE3EE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9366-CDEE-4466-8B28-072A87B7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C12-77C5-481B-B699-B5881EB9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EA12-AD19-4B5F-B0DF-BB5CEC7B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2A12-B9FA-4CFF-852A-C220BAD8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FC68-BC04-46FE-9E7B-9C925997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C2B-E3F8-46E9-B874-636DB52F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5B3-C8A8-494E-A286-92BFFCD3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3D7F-56F8-4312-8599-3021689C686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فصل الاو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ماهية التقارير الما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المستفيدون منه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أهداف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41600" y="1333440"/>
            <a:ext cx="7660800" cy="1031400"/>
          </a:xfrm>
          <a:prstGeom prst="rect">
            <a:avLst/>
          </a:prstGeom>
          <a:solidFill>
            <a:srgbClr val="ebd1a1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هدف من التقارير الم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9080" y="3130920"/>
            <a:ext cx="7580160" cy="2251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ظهار نتيجة نشاط المنشأة والمركز المالي والتغيرات في المركز المالي بكل عدالة ووضوح في ضوء المبادئ المحاسبية المقبو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إمداد المستفيدين بمعلومات موثوق بها عن نشاط المنشأة ومركزها المال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771480"/>
            <a:ext cx="7772760" cy="9082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خصائص النوعية ل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5040" y="2421000"/>
            <a:ext cx="3181320" cy="386856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لائ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دم التحي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ابلية للف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وقي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ار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4B5A-E717-4774-AA78-3F17922F85C2}" type="slidenum">
              <a:t>11</a:t>
            </a:fld>
          </a:p>
        </p:txBody>
      </p:sp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764640"/>
            <a:ext cx="7772760" cy="12002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هدف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2320" y="2973240"/>
            <a:ext cx="5486400" cy="32641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نظمات المه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جهات المشرفة على البورص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نظام الاقتصادي الس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ضخ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دخل الحكو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A65B-5AEF-46CD-A68D-D380EFC165A9}" type="slidenum">
              <a:t>12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8960" y="1410480"/>
            <a:ext cx="7693200" cy="71784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37000"/>
            <a:ext cx="7775280" cy="35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كلفة التاريخ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خصص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تعدد 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عدم اشتمالها على بعض الأصول (الموارد البش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لغة التي تعد على أساسها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41600" y="1617480"/>
            <a:ext cx="7660800" cy="1031400"/>
          </a:xfrm>
          <a:prstGeom prst="rect">
            <a:avLst/>
          </a:prstGeom>
          <a:solidFill>
            <a:srgbClr val="eaeaea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دف المقر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25400" y="3486960"/>
            <a:ext cx="7607520" cy="1764360"/>
          </a:xfrm>
          <a:prstGeom prst="rect">
            <a:avLst/>
          </a:prstGeom>
          <a:solidFill>
            <a:srgbClr val="eaeaea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مكين الدارسين من التعرف على الأساليب العلمية المستخدمة في تحليل وتفسير القوائم المالية (التحليل المالي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6237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638440"/>
            <a:ext cx="7989840" cy="31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a7ff"/>
              </a:gs>
              <a:gs pos="50000">
                <a:srgbClr val="ffffff"/>
              </a:gs>
              <a:gs pos="100000">
                <a:srgbClr val="d3a7ff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جزء لا يتجزأ من التقارير الما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تبر القوائم المالية عصب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قارير المالية أعم من القوائم المالية فهي تشمل التقارير المالية ومعلومات أخرى مالية وغير مالية مثل المعلومات عن النشاط التسويقي والإنتاجي للمنشأة وتقرير مجلس الإدارة وتقرير المراجع الخارجي ...ال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ئولية المراجع فقط عن القوائم المالية والملاحظات المرفقة ب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الفرق بين التقارير المالية والقوائم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F118-AFA8-4238-9ABA-DD4BA81FEAE0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03640" y="2016000"/>
            <a:ext cx="3581640" cy="7653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0320" y="609120"/>
            <a:ext cx="7772400" cy="1143000"/>
          </a:xfrm>
          <a:prstGeom prst="rect">
            <a:avLst/>
          </a:prstGeom>
          <a:solidFill>
            <a:srgbClr val="ccccff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3105000"/>
            <a:ext cx="3529080" cy="828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مراج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46360" y="4221000"/>
            <a:ext cx="3581280" cy="866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مجلس الادا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300640"/>
            <a:ext cx="4267440" cy="8380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ادارة التنفيذ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15920"/>
            <a:ext cx="42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56BB-B556-4997-9FEA-8EDF6663A1F8}" type="slidenum">
              <a:t>4</a:t>
            </a:fld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280" y="549000"/>
            <a:ext cx="7993440" cy="69012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ولاً: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0200" y="2671560"/>
            <a:ext cx="3819600" cy="6490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فاهيم التي تؤثر على شكل ومحتوى القوائم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2673360"/>
            <a:ext cx="3168720" cy="6494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ناصر 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3836880"/>
            <a:ext cx="316692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صول (الموجود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لتزامات (المطلوب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يراد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صروف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في الدخ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3836880"/>
            <a:ext cx="180036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دو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حقق الإيرا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قاب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وحدة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اس النقد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838680"/>
            <a:ext cx="1873080" cy="23986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كلفة التاريخ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فصا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همية النسب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فظ (الحيطة والحذ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601640"/>
            <a:ext cx="7993080" cy="7192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ائمة المركز المالي – قائمة الدخل – قائمة التدفقات النقدية – قائمة الأرباح المحتج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32720" y="3429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AC45-89F9-4C03-9479-BBABFD2E75D6}" type="slidenum">
              <a:t>5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نياً: تقرير مراقب الحساب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نتيجة الفحص للقوائم المالية من حيث مدى دقة المعلومات التي تحتويها ومدى تمثيلها بصدق وعدالة للمركز المالي للمشروع ونتيجة نشاط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9CCC-53E4-4189-90A1-46348138E027}" type="slidenum">
              <a:t>6</a:t>
            </a:fld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لثاً: تقرير مجلس الإد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عامة عن المنشأة وأهدافها ومركزها المالي والتسويقي، ومعلومات عن الإنتاج ودرجة نمو المبيعات والأرباح والعوامل المؤثرة في نشاط المنشأة مستقبلا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لا تخضع المعلومات الواردة فيه لمراجعة مراقب الحسابا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701-539D-49EF-BD6F-DBBE4CB98E4E}" type="slidenum">
              <a:t>7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ابعاً: تقرير الإدارة التنفيذ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أكثر تفصيلاً من تقرير مجلس الإدارة، كالأصول والالتزامات وحقوق الملكية والتغيرات التي حدثت عليها خلال السنة المالية، ومعلومات عن العقود الجديدة وسياسة توزيع الأرباح والعاملين والخدمات المقدمة له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لزامي في بعض الدول كبريطاني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2B18-847C-481E-8A3F-0B914E223F26}" type="slidenum">
              <a:t>8</a:t>
            </a:fld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704880"/>
            <a:ext cx="7772400" cy="1571760"/>
          </a:xfrm>
          <a:prstGeom prst="downArrowCallout">
            <a:avLst>
              <a:gd name="adj1" fmla="val -122318"/>
              <a:gd name="adj2" fmla="val 123626"/>
              <a:gd name="adj3" fmla="val 16667"/>
              <a:gd name="adj4" fmla="val 6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فيدون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2492280"/>
            <a:ext cx="5040360" cy="35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d1a1"/>
              </a:gs>
              <a:gs pos="50000">
                <a:srgbClr val="ffffff"/>
              </a:gs>
              <a:gs pos="100000">
                <a:srgbClr val="ebd1a1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إدارة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لاك المنشأة والمستثمرون المحتم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دائنو المنشأة و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جهات الحك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راكز الدراسات والبحو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412F-55CA-4735-9552-BF139B54A4E9}" type="slidenum">
              <a:t>9</a:t>
            </a:fld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2:41:08Z</dcterms:modified>
  <cp:revision>21</cp:revision>
  <dc:subject/>
  <dc:title>التحليل المالي والائتماني</dc:title>
</cp:coreProperties>
</file>